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172-F55E-4FD3-8873-9A713342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AE72-18C5-4B5D-BC5C-59F96D8D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64F-17E1-495A-9D93-853718C6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DB3-0434-4BC2-83B9-25564519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5AE9-873F-4A34-B0D8-8F0AD860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D6A2-BAC0-49B9-AC14-B97266BE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876-B4BB-4D0A-833E-ECA03A7B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89F-AFBC-42F9-8FA1-46143107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6BBE-F4D9-4E65-BFE6-61793F3F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E5C-AED9-461F-BAEE-FA6ADBE4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767-45D6-46DE-A6E2-7231EB33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8BA-EFEF-4B8A-BD50-77D57098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104F-FC05-464D-9613-93BD3FE138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8600"/>
            <a:ext cx="2666880" cy="11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ات يديك وضعهما في جرحي وكن مؤمناً   هات يديك هات يديك أبني بهما العالم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304920" y="228600"/>
            <a:ext cx="3505320" cy="9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يداي تبحثان عنك في الزهور والنور والناس خذني دلّني إليك متى تُشرق ونراكَ وجهاً وجهاً لوجهٍ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2666880" cy="11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ات يديك وضعهما في جرحي وكن مؤمناً   هات يديك هات يديك أبني بهما العالم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304920" y="228600"/>
            <a:ext cx="3505320" cy="10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يداي تبحثان عنك بالرسمِ والنحت والشعر والنقرِ على الأوتار متى تُشرق مِن عتمة يديَّ </a:t>
            </a:r>
            <a:r>
              <a:rPr b="1" lang="ar-SA" sz="4800" spc="-1" strike="noStrike">
                <a:solidFill>
                  <a:srgbClr val="ffcccc"/>
                </a:solidFill>
                <a:latin typeface="Arial"/>
              </a:rPr>
              <a:t>تُشرق مِن عتمة يديَّ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28600"/>
            <a:ext cx="2666880" cy="11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ات يديك وضعهما في جرحي وكن مؤمناً   هات يديك هات يديك أبني بهما العالم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4:05:35Z</dcterms:created>
  <dc:creator>HANI SAFI</dc:creator>
  <dc:description/>
  <dc:language>en-US</dc:language>
  <cp:lastModifiedBy>HANI SAFI</cp:lastModifiedBy>
  <dcterms:modified xsi:type="dcterms:W3CDTF">2003-04-25T04:26:15Z</dcterms:modified>
  <cp:revision>1</cp:revision>
  <dc:subject/>
  <dc:title>Slide 1</dc:title>
</cp:coreProperties>
</file>